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A7C-3AD7-46CA-9740-2C296FC3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839-70AB-4D15-AC44-702372E0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9C28-42F2-4613-B54C-7AC3D2BB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6B2-6CEA-4FD8-90D1-E7DC396B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C2EA-BC9E-432E-8F91-8E43774B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0B16-3505-42B8-AFD1-19486B6F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07C4-9228-4316-B54B-AADA2686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DBBC-9516-4607-B5AD-42791B88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57127-9A6F-49A4-9A70-C6DCBD46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573D-0CD5-4FB2-A75A-0CAFB09E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8003-9883-45D5-9272-4FAC889A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415-F8C0-49F0-A715-62A5E27E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ADA7-F98F-4B7A-84AA-CF2F4CC2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A784-03C9-432D-A551-FA09B00A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EE3E-1024-4FD9-8EA2-BA32B7F1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901A-0BDF-4CCC-8F8F-5B6ECD5C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0D1C-C090-44E0-860D-A1BDC988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6DAB-55D7-44BA-A1ED-AE510412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2B0-98E8-475B-A839-2C86D930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9F6-74D5-4AFE-BB94-781D183F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D51-899A-4B40-A6A5-F6CD51D9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828-D638-4BF4-A49A-086FB41B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1DC6-F7EA-49F4-B752-B8539DAB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CE7-E10A-4939-AE1D-CE06C98D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1BE7-567F-4B95-BDBE-29DC8AD8A2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1DAE-C008-4592-BDD3-2AAAC60075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Online Treasure Hunts</a:t>
            </a:r>
            <a:br>
              <a:rPr sz="4000"/>
            </a:b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Prepared by: Eddelyn D. Gupeteo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eb-Enhanced Learning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n Instructional Design Worksho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apted from: Patricia B. Arint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ilipinas School Ne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ackground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An online inquiry-based activity developed by Australian Tom March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Aims to develop knowledge of a specific topic in the curriculum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mpon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brief introductio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set of questions about a topic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set of web resources where the answers can be found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A big Question that students will answer as a concluding activity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s mastery of a topic through carefully formulated and sequenced questions that define the scope or parameters of the top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s reading skills through exposure to various types of learning materials, and different ways of presenting a top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sters active lear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Benefi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s skills in analysis and synthesis through the Big Questions, which requires students to integrate what they have learned from the web resour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s creativity by having students synthesize information using various formats, such as reports, skits, posters and coll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6T02:22:38Z</dcterms:created>
  <dc:creator>Student's</dc:creator>
  <dc:description/>
  <dc:language>en-US</dc:language>
  <cp:lastModifiedBy>Student's</cp:lastModifiedBy>
  <dcterms:modified xsi:type="dcterms:W3CDTF">2011-01-06T02:24:40Z</dcterms:modified>
  <cp:revision>1</cp:revision>
  <dc:subject/>
  <dc:title>Online Treasure Hunts Prepared by: Eddelyn D. Gupeteo</dc:title>
</cp:coreProperties>
</file>